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9692"/>
        <c:axId val="53139059"/>
      </c:barChart>
      <c:catAx>
        <c:axId val="6829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39059"/>
        <c:crosses val="autoZero"/>
        <c:auto val="1"/>
        <c:lblAlgn val="ctr"/>
        <c:lblOffset val="100"/>
        <c:noMultiLvlLbl val="0"/>
      </c:catAx>
      <c:valAx>
        <c:axId val="53139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9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B88-AFD2-4A35-B6BB-64544BC3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3AA-4E05-40CA-A7CB-41CCB3E5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A4C-A024-4873-B68B-19F9390E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CE4-9FDE-498F-85B2-70B061D7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886-B698-4A74-91B4-F49DD824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B18-529A-48D3-AD42-EC937E10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96B-FF12-41FE-9E55-E1907F06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2C3-E8C7-4252-A476-69B1B98E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F17-3AF0-4C61-8FE3-1D665F99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09A-2296-46DC-BDB0-7E35800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DAE-5134-40AC-9AB1-BC275B0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E58-E36E-41C7-88D2-F455F3C4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7EB7E-3A46-4CEB-885D-8249CDDF0A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