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4872347"/>
        <c:axId val="61549221"/>
      </c:barChart>
      <c:catAx>
        <c:axId val="4487234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549221"/>
        <c:crosses val="autoZero"/>
        <c:auto val="1"/>
        <c:lblAlgn val="ctr"/>
        <c:lblOffset val="100"/>
        <c:noMultiLvlLbl val="0"/>
      </c:catAx>
      <c:valAx>
        <c:axId val="6154922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87234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89BD9-D5DD-4B2F-961C-F774E1606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7A5D6-99A0-4142-AD1F-9B88B3A5E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B26B8-43BA-494C-A628-A7381A0F3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7F844-FEC1-4AF4-8FCB-35F4FC785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300D8-10D6-4760-806E-59AFA6C65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475F4-8E5A-4E78-9E07-EC8837D64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61AB5-BBE2-4DDF-91CF-34DB52E21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F7A10-0A87-48DC-B5F7-26594E009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61D7B-221D-40F0-AA3F-7714342B7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CF980-A7D2-43F9-BD22-780547C8F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FD5CA-8AE1-4F97-B608-FE4E61B5C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40FCC-1FEE-4D84-861D-632BE4A06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F06278-7530-44EB-BE53-9804C69EE08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