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94811"/>
        <c:axId val="28038479"/>
      </c:barChart>
      <c:catAx>
        <c:axId val="35494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38479"/>
        <c:crosses val="autoZero"/>
        <c:auto val="1"/>
        <c:lblAlgn val="ctr"/>
        <c:lblOffset val="100"/>
        <c:noMultiLvlLbl val="0"/>
      </c:catAx>
      <c:valAx>
        <c:axId val="28038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94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79E-8BE8-4BA3-BA5A-342BD6D0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667-686D-4F84-A804-B52C937E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EF5-559A-47DC-8649-0786C972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920-71A1-42FC-BFFA-096FD308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DB0-C3F2-442D-9EF1-0BB23C21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AB3-1A18-44A7-8753-35D696B2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FF0-9510-498E-9A7E-17EFBB92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BB6-3C89-418D-9567-E4EAD808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29B-8767-4819-A2DE-5182D47E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D82-A7F9-420E-BD5A-9C8BD30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F31-F157-4B76-B9E0-EB63F1CB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548-35F9-481C-AE0C-B5236B99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F68CC-319C-4CC2-A241-8E26301062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