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60772"/>
        <c:axId val="31028021"/>
      </c:barChart>
      <c:catAx>
        <c:axId val="32360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8021"/>
        <c:crosses val="autoZero"/>
        <c:auto val="1"/>
        <c:lblAlgn val="ctr"/>
        <c:lblOffset val="100"/>
        <c:noMultiLvlLbl val="0"/>
      </c:catAx>
      <c:valAx>
        <c:axId val="31028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60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C7F-A66E-4601-A389-E02ADE32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0CB-B308-46AB-8990-2EA721D2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907-DEB3-4D7D-8642-76E33335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17C-48CE-4A7D-99ED-030842A0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B0C-D565-4781-B1CB-C8F710B3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D45-59ED-474A-A97E-5489C4F9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506-F0DA-43BD-B02F-259F3301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17D-8EE2-4D6A-88CA-18FA17AA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329-D8A4-4A57-B5C0-04589CB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1CC-0BAC-4C4C-B057-1A149A35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4D4-BA0B-4CA6-9460-1E22D992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8AA-417E-479F-BEE7-78C662FE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95063-87F4-49F0-A39F-8CE4E8EAA8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