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555082"/>
        <c:axId val="91487031"/>
      </c:barChart>
      <c:catAx>
        <c:axId val="295550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487031"/>
        <c:crosses val="autoZero"/>
        <c:auto val="1"/>
        <c:lblAlgn val="ctr"/>
        <c:lblOffset val="100"/>
        <c:noMultiLvlLbl val="0"/>
      </c:catAx>
      <c:valAx>
        <c:axId val="914870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5550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6108-D185-4502-B2A6-48F9A6831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DC2D-5E22-47B6-A6A8-376795AF7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7C94-D535-49EB-A65F-7B89D1B36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BD30-E86A-4D20-9073-9A6BDFC4B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48E6-B0DB-41DB-B214-E324D6B3A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9590-80F4-4433-8220-D78014E7E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64BD-CDF9-4D22-95F7-CC89E79A7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8280-2971-4085-920E-9844869A4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0031-C0E4-4A22-9373-DEA2B1DC0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6887-F318-46E0-8D6C-3AB465FC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0670-3F48-4E9D-8DB9-41B9E836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9F5C-A532-45AF-9A6E-9DAEED09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39558F-2E51-4F59-8576-AB492DDFF8D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