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18560"/>
        <c:axId val="92507851"/>
      </c:barChart>
      <c:catAx>
        <c:axId val="67018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7851"/>
        <c:crosses val="autoZero"/>
        <c:auto val="1"/>
        <c:lblAlgn val="ctr"/>
        <c:lblOffset val="100"/>
        <c:noMultiLvlLbl val="0"/>
      </c:catAx>
      <c:valAx>
        <c:axId val="92507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8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4B6-6373-4D12-BCE2-133A3FCE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96D-05FC-4BF8-81D9-6CA6C067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4EC-9A34-4006-A6D7-C2A90A71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27F-338B-47DE-85DA-6FCE134C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D87-3180-493C-B475-FFBDE76B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1F0-1F85-4C95-89AA-8447542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310-A91A-4714-B278-7855F33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0FB-AF1B-47BA-ACF8-5804FC9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FF8-AB8E-49F5-A2F8-C04BDB2F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14C-E25B-453F-8D92-B33CA03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F3D-52D1-4459-9558-E1C4E1A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E47-BEE0-46D7-B5B9-7ED9ED2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45BAB-83F2-4C02-B1CC-135F6D977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