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43031"/>
        <c:axId val="16809822"/>
      </c:barChart>
      <c:catAx>
        <c:axId val="47643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9822"/>
        <c:crosses val="autoZero"/>
        <c:auto val="1"/>
        <c:lblAlgn val="ctr"/>
        <c:lblOffset val="100"/>
        <c:noMultiLvlLbl val="0"/>
      </c:catAx>
      <c:valAx>
        <c:axId val="16809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3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13A-B9AE-4DFD-8E0E-8DAB323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C8F-B177-4E79-8C66-EEA7C16B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601-90E7-486B-8291-AEA77F92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042-F97F-4AB9-9076-9E07E864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9A9-9F2F-49A6-94CC-9C7D63D6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0BF-5C39-4C37-A207-8972078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D3C-162F-4EFA-996A-6F5EB8D1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F56-9772-4262-AEB6-D49155BF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8F4-5B5F-43EE-8047-DEC29470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E71-D13D-4F4B-859A-E57A54A0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269-83DB-4616-AE1B-0B04E6CE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B0C-74B2-44C2-9628-211078E2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58670-A515-430A-90B0-84910075A4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