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00030"/>
        <c:axId val="85013881"/>
      </c:barChart>
      <c:catAx>
        <c:axId val="66900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3881"/>
        <c:crosses val="autoZero"/>
        <c:auto val="1"/>
        <c:lblAlgn val="ctr"/>
        <c:lblOffset val="100"/>
        <c:noMultiLvlLbl val="0"/>
      </c:catAx>
      <c:valAx>
        <c:axId val="85013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00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D3D-39ED-46FE-B6C2-CAC7EBAE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F97-3CDC-474F-9E2C-6B87D19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A87-3662-46A8-BD4D-94DB4061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2B8-25BF-45A8-A4AF-F4C53920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7C4-F74D-4772-8671-1CB87FD6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F3A-EA74-4876-8B0E-41DDFFF3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5F4-280C-4B9B-A9D5-AB28D31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9C1-358D-4A55-A150-A6C23B4F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136-2C9D-4A0D-B8F1-456D17D7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63A-0850-4AD7-AB3F-2DFBFCD7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882-6F06-4B85-953D-9252A039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0A0-8B26-4F44-AF31-24274EF9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1E8AD-EF6A-4725-B985-3BB74E9E2F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