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53661"/>
        <c:axId val="46546519"/>
      </c:barChart>
      <c:catAx>
        <c:axId val="83353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46519"/>
        <c:crosses val="autoZero"/>
        <c:auto val="1"/>
        <c:lblAlgn val="ctr"/>
        <c:lblOffset val="100"/>
        <c:noMultiLvlLbl val="0"/>
      </c:catAx>
      <c:valAx>
        <c:axId val="46546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53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219-ACF9-4979-98BB-F51985C7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B19-DA52-4A70-9459-32436477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D99-B064-4240-ACFA-8F03C82D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CFE-4CD4-413B-B685-A8424330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EF4-F537-42FD-8586-1CB0C88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8F8-07C8-4D8E-9865-1978162E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5DB-6677-489F-9F4B-6AD3AEE8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3C4-2BB2-430A-987D-562AAE64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B15-B517-47C1-989E-16DE284A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713-3769-48E8-906F-658EE7C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DCD-2893-4C52-A943-2BBCCE31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6FE-B803-4882-8440-B9899B6D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40A73-727A-4F9E-8E51-40BFA16FE9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