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80183"/>
        <c:axId val="13350872"/>
      </c:barChart>
      <c:catAx>
        <c:axId val="19380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0872"/>
        <c:crosses val="autoZero"/>
        <c:auto val="1"/>
        <c:lblAlgn val="ctr"/>
        <c:lblOffset val="100"/>
        <c:noMultiLvlLbl val="0"/>
      </c:catAx>
      <c:valAx>
        <c:axId val="13350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80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B42-301B-4696-AC4B-8C72CF5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C3F-A4CC-4B62-9C12-03AA020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4A1-F23B-4BB1-A58C-BE004AA4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705-2D78-4E50-99A5-83370AAE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8B7-8FAF-406A-A2B5-0AB34E5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80D-B1B9-4D4F-9D32-DE53C420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D39-D2FD-4740-95FD-5CC6E778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830-69B5-40FC-87E6-3AE3F44B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378-D19F-4D5D-9699-C8B634F4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CCB-C4D9-44B2-8FEA-0CA96E9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347-56A9-4A74-8482-32C641E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1F5-DB81-4E8A-B625-02B9765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45358-3CF0-4818-9C99-1809473DA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