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02267"/>
        <c:axId val="41988145"/>
      </c:barChart>
      <c:catAx>
        <c:axId val="7202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88145"/>
        <c:crosses val="autoZero"/>
        <c:auto val="1"/>
        <c:lblAlgn val="ctr"/>
        <c:lblOffset val="100"/>
        <c:noMultiLvlLbl val="0"/>
      </c:catAx>
      <c:valAx>
        <c:axId val="41988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F5D-2E6B-424A-B598-A8C1F33A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BA9-E62A-4D73-868B-7006AA7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E76-C138-40F2-AF58-42ACB92C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FE9-5517-48EA-8EF8-8557EDB6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9C0-A533-4896-8171-6153F3B8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B40-474C-4326-B9FA-B0D192BE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7FE-0740-4F74-8BAD-BC9C287A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CB2-65E0-4798-B46C-C25FEA33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247-6F70-4B1C-8106-99E02B09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823-0F3F-4574-B061-5B9F054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3966-BC4C-4B2D-A9C2-CD8B8FB7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AEF-3961-44B9-9D6A-2090A5A8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EF2FB-98E0-41C4-9714-86B1666183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