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presProps.xml" ContentType="application/vnd.openxmlformats-officedocument.presentationml.presProps+xml"/>
  <Override PartName="/ppt/slides/slide13.xml" ContentType="application/vnd.openxmlformats-officedocument.presentationml.slide+xml"/>
  <Override PartName="/ppt/slides/slide12.xml" ContentType="application/vnd.openxmlformats-officedocument.presentationml.slide+xml"/>
  <Override PartName="/ppt/slides/slide9.xml" ContentType="application/vnd.openxmlformats-officedocument.presentationml.slide+xml"/>
  <Override PartName="/ppt/slides/slide17.xml" ContentType="application/vnd.openxmlformats-officedocument.presentationml.slide+xml"/>
  <Override PartName="/ppt/slides/slide2.xml" ContentType="application/vnd.openxmlformats-officedocument.presentationml.slide+xml"/>
  <Override PartName="/ppt/slides/_rels/slide8.xml.rels" ContentType="application/vnd.openxmlformats-package.relationships+xml"/>
  <Override PartName="/ppt/slides/_rels/slide10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13.xml.rels" ContentType="application/vnd.openxmlformats-package.relationships+xml"/>
  <Override PartName="/ppt/slides/_rels/slide16.xml.rels" ContentType="application/vnd.openxmlformats-package.relationships+xml"/>
  <Override PartName="/ppt/slides/_rels/slide12.xml.rels" ContentType="application/vnd.openxmlformats-package.relationships+xml"/>
  <Override PartName="/ppt/slides/_rels/slide15.xml.rels" ContentType="application/vnd.openxmlformats-package.relationships+xml"/>
  <Override PartName="/ppt/slides/_rels/slide9.xml.rels" ContentType="application/vnd.openxmlformats-package.relationships+xml"/>
  <Override PartName="/ppt/slides/_rels/slide11.xml.rels" ContentType="application/vnd.openxmlformats-package.relationships+xml"/>
  <Override PartName="/ppt/slides/_rels/slide14.xml.rels" ContentType="application/vnd.openxmlformats-package.relationships+xml"/>
  <Override PartName="/ppt/slides/_rels/slide17.xml.rels" ContentType="application/vnd.openxmlformats-package.relationships+xml"/>
  <Override PartName="/ppt/slides/_rels/slide1.xml.rels" ContentType="application/vnd.openxmlformats-package.relationships+xml"/>
  <Override PartName="/ppt/slides/_rels/slide4.xml.rels" ContentType="application/vnd.openxmlformats-package.relationships+xml"/>
  <Override PartName="/ppt/slides/_rels/slide2.xml.rels" ContentType="application/vnd.openxmlformats-package.relationships+xml"/>
  <Override PartName="/ppt/slides/_rels/slide5.xml.rels" ContentType="application/vnd.openxmlformats-package.relationships+xml"/>
  <Override PartName="/ppt/slides/_rels/slide3.xml.rels" ContentType="application/vnd.openxmlformats-package.relationships+xml"/>
  <Override PartName="/ppt/slides/slide16.xml" ContentType="application/vnd.openxmlformats-officedocument.presentationml.slide+xml"/>
  <Override PartName="/ppt/slides/slide1.xml" ContentType="application/vnd.openxmlformats-officedocument.presentationml.slide+xml"/>
  <Override PartName="/ppt/slides/slide15.xml" ContentType="application/vnd.openxmlformats-officedocument.presentationml.slide+xml"/>
  <Override PartName="/ppt/slides/slide14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10.xml" ContentType="application/vnd.openxmlformats-officedocument.presentationml.slide+xml"/>
  <Override PartName="/ppt/slides/slide11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  <p:sldId id="264" r:id="rId11"/>
    <p:sldId id="265" r:id="rId12"/>
    <p:sldId id="266" r:id="rId13"/>
    <p:sldId id="267" r:id="rId14"/>
    <p:sldId id="268" r:id="rId15"/>
    <p:sldId id="269" r:id="rId16"/>
    <p:sldId id="270" r:id="rId17"/>
    <p:sldId id="271" r:id="rId18"/>
    <p:sldId id="272" r:id="rId19"/>
  </p:sldIdLst>
  <p:sldSz cx="10158413" cy="7621588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slide" Target="slides/slide9.xml"/><Relationship Id="rId12" Type="http://schemas.openxmlformats.org/officeDocument/2006/relationships/slide" Target="slides/slide10.xml"/><Relationship Id="rId13" Type="http://schemas.openxmlformats.org/officeDocument/2006/relationships/slide" Target="slides/slide11.xml"/><Relationship Id="rId14" Type="http://schemas.openxmlformats.org/officeDocument/2006/relationships/slide" Target="slides/slide12.xml"/><Relationship Id="rId15" Type="http://schemas.openxmlformats.org/officeDocument/2006/relationships/slide" Target="slides/slide13.xml"/><Relationship Id="rId16" Type="http://schemas.openxmlformats.org/officeDocument/2006/relationships/slide" Target="slides/slide14.xml"/><Relationship Id="rId17" Type="http://schemas.openxmlformats.org/officeDocument/2006/relationships/slide" Target="slides/slide15.xml"/><Relationship Id="rId18" Type="http://schemas.openxmlformats.org/officeDocument/2006/relationships/slide" Target="slides/slide16.xml"/><Relationship Id="rId19" Type="http://schemas.openxmlformats.org/officeDocument/2006/relationships/slide" Target="slides/slide17.xml"/><Relationship Id="rId20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72070EB-D93C-4A47-8A41-2B86ABBD91AC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3A4BE463-9EF2-42CC-B1C1-B5E4FE842B69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6BCE022-CAB4-4F52-9764-91F87E7E921B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68172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6602040" y="220032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76176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68172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6602040" y="4589280"/>
            <a:ext cx="27806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3F01451-2B7D-4850-8653-E076A0E5C54A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F1FF083-AAEE-4AEB-B235-CD21CED51E76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51D7420-C66E-4CFE-89C5-0FD30378E1AE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D7F69C5-FB3F-40F3-BDC7-D2BD6AD96C88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D93632B-4143-4BA4-927A-E040F7D6DEB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761760" y="676440"/>
            <a:ext cx="8636040" cy="58953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B5C6D68-1775-4F67-A438-75BA7A7CF6C7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88EBDF42-6B5B-46C8-ABD1-4D9FB9696A5E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5186880" y="458928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E89B464F-A660-4531-B77B-343B2A879667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76176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5186880" y="2200320"/>
            <a:ext cx="421416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761760" y="4589280"/>
            <a:ext cx="8636040" cy="21812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54FC80DC-F634-48FF-B047-192473635681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761760" y="676440"/>
            <a:ext cx="8636040" cy="12715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761760" y="2200320"/>
            <a:ext cx="8636040" cy="457344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marL="343080" indent="-343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43040" indent="-28584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430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6002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57400" indent="-22860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762120" y="6941880"/>
            <a:ext cx="21175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470040" y="6941880"/>
            <a:ext cx="321948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7279920" y="6941880"/>
            <a:ext cx="2119320" cy="5094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8F2F57DF-D0C6-4B65-A31F-8AD701D3B997}" type="slidenum">
              <a:rPr b="0" lang="en-U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2.xml"/>
</Relationships>
</file>

<file path=ppt/slides/_rels/slide10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1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1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slideLayout" Target="../slideLayouts/slideLayout4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_rels/slide9.xml.rels><?xml version="1.0" encoding="UTF-8"?>
<Relationships xmlns="http://schemas.openxmlformats.org/package/2006/relationships"><Relationship Id="rId1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1" name="PlaceHolder 1"/>
          <p:cNvSpPr>
            <a:spLocks noGrp="1"/>
          </p:cNvSpPr>
          <p:nvPr>
            <p:ph type="title"/>
          </p:nvPr>
        </p:nvSpPr>
        <p:spPr>
          <a:xfrm>
            <a:off x="857160" y="1930320"/>
            <a:ext cx="8445600" cy="12146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800" spc="-1" strike="noStrike">
                <a:solidFill>
                  <a:srgbClr val="000000"/>
                </a:solidFill>
                <a:latin typeface="Arial"/>
              </a:rPr>
              <a:t>perlall</a:t>
            </a:r>
            <a:endParaRPr b="0" lang="en-US" sz="48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2" name="PlaceHolder 2"/>
          <p:cNvSpPr>
            <a:spLocks noGrp="1"/>
          </p:cNvSpPr>
          <p:nvPr>
            <p:ph type="subTitle"/>
          </p:nvPr>
        </p:nvSpPr>
        <p:spPr>
          <a:xfrm>
            <a:off x="1771560" y="3860640"/>
            <a:ext cx="6615360" cy="9050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 algn="ctr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3200" spc="-1" strike="noStrike">
                <a:solidFill>
                  <a:srgbClr val="000000"/>
                </a:solidFill>
                <a:latin typeface="Arial"/>
              </a:rPr>
              <a:t>do something with all my perls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365120" y="5994360"/>
            <a:ext cx="7925040" cy="3909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0" rIns="0" tIns="0" bIns="0" anchor="t">
            <a:spAutoFit/>
          </a:bodyPr>
          <a:p>
            <a:pPr>
              <a:lnSpc>
                <a:spcPct val="95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Reini Urban / rurban                     houston.pm, 2012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0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2" name="PlaceHolder 2"/>
          <p:cNvSpPr>
            <a:spLocks noGrp="1"/>
          </p:cNvSpPr>
          <p:nvPr>
            <p:ph/>
          </p:nvPr>
        </p:nvSpPr>
        <p:spPr>
          <a:xfrm>
            <a:off x="247320" y="1312920"/>
            <a:ext cx="9807480" cy="6673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900" spc="-1" strike="noStrike">
                <a:solidFill>
                  <a:srgbClr val="000000"/>
                </a:solidFill>
                <a:latin typeface="arial"/>
              </a:rPr>
              <a:t># some aliases suggestions</a:t>
            </a: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b="p -Iblib/arch -Iblib/lib" # no -Mblib!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pan='p -S cpan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=mak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='make -j4 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i='mt &amp;&amp; smi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mtee='mt 2&gt;&amp;1 | tee log.test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smi='sudo make instal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#set p alias from current Makefile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function ppm { p=$(perl -ane'print $F[2] if /^FULLPERL =/' Makefile); echo alias p=$p; test -n "$p" &amp;&amp; alias p=$p; }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arial"/>
              </a:rPr>
              <a:t>alias pgrp='pgrep -fl per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9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ypical test session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200" spc="-1" strike="noStrike">
                <a:solidFill>
                  <a:srgbClr val="000000"/>
                </a:solidFill>
                <a:latin typeface="arial"/>
              </a:rPr>
              <a:t>alias pb="p -Iblib/arch -Iblib/lib"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f="if [ -f Makefile.PL ]; then p Makefile.PL; else rm -rf _build; p Build.PL; p Build; fi"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alias pm='pmf &amp;&amp; m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0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m                         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make with your current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t/02failing_test.t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single 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b -d t/02failing_test.t     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# debug 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mt                           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test with this per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perlall -m --nogit maketest  </a:t>
            </a:r>
            <a:r>
              <a:rPr b="0" i="1" lang="en-US" sz="2400" spc="-1" strike="noStrike">
                <a:solidFill>
                  <a:srgbClr val="000000"/>
                </a:solidFill>
                <a:latin typeface="'courier new'"/>
              </a:rPr>
              <a:t>#</a:t>
            </a:r>
            <a:r>
              <a:rPr b="0" i="1" lang="en-US" sz="2400" spc="-1" strike="noStrike">
                <a:solidFill>
                  <a:srgbClr val="000000"/>
                </a:solidFill>
                <a:latin typeface="'times new roman'"/>
              </a:rPr>
              <a:t> all major perl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do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who has no YAML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do -MYAML -e0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install on older version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8.* perlall cpanm -f -S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check memory leaks, with fresh make befor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use current p as \$p        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pb not, sorry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 make '-e1 &amp;&amp; valgrind \$p -Mblib test.pl'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perlall make does always a do, i.e $p $@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vm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eed to setup every vm, with perlall of course. See INSTALL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sh-copy-id your .ssh key, adjust .profile or .bashrc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reate the same layout as on the master for your work modul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ssh win mkdir -p Perl/MyModu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'courier new'"/>
              </a:rPr>
              <a:t>perlall testvm win centos5 freebsd10 --fork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f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win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 is on a vm, then the vm is started/resumed. (kvm only so far). Switched from vmware,xen,virtualbox to kvm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With -j4 ensure that max. 4 vm's run concurrently. Memory and IO pressure destabilizes the system, esp. with cgroups and 3.x kernel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TODO: Automated mingw/activeperl testing. ssh with cmd.exe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New perl release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PlaceHolder 2"/>
          <p:cNvSpPr>
            <a:spLocks noGrp="1"/>
          </p:cNvSpPr>
          <p:nvPr>
            <p:ph/>
          </p:nvPr>
        </p:nvSpPr>
        <p:spPr>
          <a:xfrm>
            <a:off x="247680" y="1422360"/>
            <a:ext cx="9664560" cy="582768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new tag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root                    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buildroo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# for benchmark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15.8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start CPAN upd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8* perlall in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how does it look like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MyModul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m &amp;&amp; mte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Test blea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247680" y="132048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-git                    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cd to git srcdi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co blead; git fetch      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# get la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blead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-nt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link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 -Dcc=gcc-mp-4.7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/usr/local/bin/perl5.15.8d-nt@8129baca installe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blead - magic version,  --link    -Dmksymlinks to perl-gi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--link -Dcc=clang \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Dld=clang 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as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perl5.15.8d-nt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clang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...test error...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-v build bleadd-nt \ 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-as perl5.15.8d-nt-clang </a:t>
            </a:r>
            <a:r>
              <a:rPr b="1" lang="en-US" sz="2400" spc="-1" strike="noStrike">
                <a:solidFill>
                  <a:srgbClr val="000000"/>
                </a:solidFill>
                <a:latin typeface="'courier new'"/>
              </a:rPr>
              <a:t>--install 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ontinu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bleadd-nt smoke-me/khw-tk # branc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=&gt; perl5.15.8d-nt@khw-tk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3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lanned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4" name="PlaceHolder 2"/>
          <p:cNvSpPr>
            <a:spLocks noGrp="1"/>
          </p:cNvSpPr>
          <p:nvPr>
            <p:ph/>
          </p:nvPr>
        </p:nvSpPr>
        <p:spPr>
          <a:xfrm>
            <a:off x="231840" y="1824120"/>
            <a:ext cx="9663120" cy="5473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smoke -j4 bleadd-nt smoke-me/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end smoke report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=5*[0-9]-nt perlall -m bench t/benchscript.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TODO: stable Benchmark.pm (check load, wait until stable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2700" spc="-1" strike="noStrike">
                <a:solidFill>
                  <a:srgbClr val="000000"/>
                </a:solidFill>
                <a:latin typeface="Arial"/>
              </a:rPr>
              <a:t>perlall cpan Devel::*Prof*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=&gt; query CPAN for matching modules. 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metacpan not yet good enough. CPAN is better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1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pan App::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PlaceHolder 2"/>
          <p:cNvSpPr>
            <a:spLocks noGrp="1"/>
          </p:cNvSpPr>
          <p:nvPr>
            <p:ph/>
          </p:nvPr>
        </p:nvSpPr>
        <p:spPr>
          <a:xfrm>
            <a:off x="244080" y="1820880"/>
            <a:ext cx="9674280" cy="54720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Per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it clone https://github.com/rurban/App-perlall.g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App-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erl Makefile.PL &amp;&amp; make test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cd ~/bi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-s ~/Perl/App-perlall/scripts/perl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maketes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do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cpa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ln perlall perlall-init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# See INSTALL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5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arallel perl installations as supported by Configure 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(or not)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chdir or switching to other perls</a:t>
            </a: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 (better perlbrew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4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2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10.1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9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5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8.4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/usr/local/bin/perl5.6.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6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Design Goal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7" name="PlaceHolder 2"/>
          <p:cNvSpPr>
            <a:spLocks noGrp="1"/>
          </p:cNvSpPr>
          <p:nvPr>
            <p:ph/>
          </p:nvPr>
        </p:nvSpPr>
        <p:spPr>
          <a:xfrm>
            <a:off x="247680" y="1828800"/>
            <a:ext cx="966456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Build, maintain and test with a lot of perls, on a lot of machine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2700" spc="-1" strike="noStrike">
                <a:solidFill>
                  <a:srgbClr val="000000"/>
                </a:solidFill>
                <a:latin typeface="Arial"/>
              </a:rPr>
              <a:t>Your private cpantesters framework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tandardize feature names: DEBUGGING and threads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Single file    - scp to all remote vm's. Only 4 external modules - self-installer independent on CPAN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8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perlall              vs      perlbrew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9" name="PlaceHolder 2"/>
          <p:cNvSpPr>
            <a:spLocks noGrp="1"/>
          </p:cNvSpPr>
          <p:nvPr>
            <p:ph/>
          </p:nvPr>
        </p:nvSpPr>
        <p:spPr>
          <a:xfrm>
            <a:off x="24732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Globally shared non-arch module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nual installation process (root, sudo or non-sudo)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t only build. Use it: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init cpan cpanm 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  </a:t>
            </a: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aketest makeinstall, ...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MSWin32, msy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0" name="PlaceHolder 3"/>
          <p:cNvSpPr>
            <a:spLocks noGrp="1"/>
          </p:cNvSpPr>
          <p:nvPr>
            <p:ph/>
          </p:nvPr>
        </p:nvSpPr>
        <p:spPr>
          <a:xfrm>
            <a:off x="5327280" y="1828800"/>
            <a:ext cx="4584600" cy="5486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Private non-arch - good for usedevel testing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automatic bash installation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parallel usag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No MSWin32, what is msys?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ommon tasks: setup + test + inst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67388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for p in 6.2 8.4 8.5 8.8 8.9 10.1 12.4 14.2 15.8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;  perlall build 5.${p}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build 5.${p}d; perlall build 5.${p}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 build 5.${p}-m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done              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and wait ~2h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lis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hat failed?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=5.15.* perlall cpanm -f --sudo YAM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init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installs e.g. Bundle::CPANReporter2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                                               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wait and prompt for the next 2hr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install</a:t>
            </a: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# generate and upload cpanreports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3" name="PlaceHolder 1"/>
          <p:cNvSpPr>
            <a:spLocks noGrp="1"/>
          </p:cNvSpPr>
          <p:nvPr>
            <p:ph type="title"/>
          </p:nvPr>
        </p:nvSpPr>
        <p:spPr>
          <a:xfrm>
            <a:off x="239760" y="297000"/>
            <a:ext cx="9656640" cy="9079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reating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4" name="PlaceHolder 2"/>
          <p:cNvSpPr>
            <a:spLocks noGrp="1"/>
          </p:cNvSpPr>
          <p:nvPr>
            <p:ph/>
          </p:nvPr>
        </p:nvSpPr>
        <p:spPr>
          <a:xfrm>
            <a:off x="237600" y="1819080"/>
            <a:ext cx="9657000" cy="54781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cd ~/Perl/B-Generate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maketes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local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all testvm --all </a:t>
            </a: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            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and remote (vm or phys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=&gt; log.test-osx10.6.8-5.10.1d-nt, log.test-linuxmint1-5.15.8d-nt, log.test-freebsd7.4-5.10.1, log.test-cygwin1.7.10s_winxp-5.14.2d-nt, ... </a:t>
            </a:r>
            <a:r>
              <a:rPr b="0" i="1" lang="en-US" sz="2100" spc="-1" strike="noStrike">
                <a:solidFill>
                  <a:srgbClr val="000000"/>
                </a:solidFill>
                <a:latin typeface="arial"/>
              </a:rPr>
              <a:t>(&gt; 50 logfiles)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ore_rpt            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save reports away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6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200" spc="-1" strike="noStrike">
                <a:solidFill>
                  <a:srgbClr val="000000"/>
                </a:solidFill>
                <a:latin typeface="'courier new'"/>
              </a:rPr>
              <a:t>$ ../B-C/status_upd -fqd</a:t>
            </a: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2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cygwin1.7.10s_winxp-5.14.2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s:  10, 38, 46, 101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22, 52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4.2-m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4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c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linuxmint1-5.15.8d-nt: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1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2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c_o3.t Failed test:  15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700" spc="-1" strike="noStrike">
                <a:solidFill>
                  <a:srgbClr val="000000"/>
                </a:solidFill>
                <a:latin typeface="Arial"/>
              </a:rPr>
              <a:t>t/e_perlcc.t Failed tests:  53..54</a:t>
            </a:r>
            <a:endParaRPr b="0" lang="en-US" sz="17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7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Working with test reports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8" name="PlaceHolder 2"/>
          <p:cNvSpPr>
            <a:spLocks noGrp="1"/>
          </p:cNvSpPr>
          <p:nvPr>
            <p:ph/>
          </p:nvPr>
        </p:nvSpPr>
        <p:spPr>
          <a:xfrm>
            <a:off x="246240" y="1417320"/>
            <a:ext cx="9578880" cy="593244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Download external cpanreport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 ../B-C/t/download-reports 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And check all reports, yours and theirs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$ ../B-C/status_upd -fqd t/reports/1.43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-fqd     </a:t>
            </a:r>
            <a:r>
              <a:rPr b="0" i="1" lang="en-US" sz="2400" spc="-1" strike="noStrike">
                <a:solidFill>
                  <a:srgbClr val="000000"/>
                </a:solidFill>
                <a:latin typeface="arial"/>
              </a:rPr>
              <a:t>fail only, quiet, no dump display (broken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arial"/>
              </a:rPr>
              <a:t>Reports are created by: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make test TEST_VERBOSE=1 2&gt;&amp;1 | tee 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git diff 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  </a:t>
            </a: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perl -V  &gt;&gt; log.tes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9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9" name="PlaceHolder 1"/>
          <p:cNvSpPr>
            <a:spLocks noGrp="1"/>
          </p:cNvSpPr>
          <p:nvPr>
            <p:ph type="title"/>
          </p:nvPr>
        </p:nvSpPr>
        <p:spPr>
          <a:xfrm>
            <a:off x="247680" y="304920"/>
            <a:ext cx="9664560" cy="9144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300" spc="-1" strike="noStrike">
                <a:solidFill>
                  <a:srgbClr val="000000"/>
                </a:solidFill>
                <a:latin typeface="Arial"/>
              </a:rPr>
              <a:t>Cfg and Shortcuts  in  ~/.perlall</a:t>
            </a:r>
            <a:endParaRPr b="0" lang="en-US" sz="43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0" name="PlaceHolder 2"/>
          <p:cNvSpPr>
            <a:spLocks noGrp="1"/>
          </p:cNvSpPr>
          <p:nvPr>
            <p:ph/>
          </p:nvPr>
        </p:nvSpPr>
        <p:spPr>
          <a:xfrm>
            <a:off x="236520" y="1821960"/>
            <a:ext cx="9664560" cy="548172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t">
            <a:normAutofit/>
          </a:bodyPr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.perlall is in bash format. source it from your .profile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700" spc="-1" strike="noStrike">
                <a:solidFill>
                  <a:srgbClr val="000000"/>
                </a:solidFill>
                <a:latin typeface="Arial"/>
              </a:rPr>
              <a:t>env and alias</a:t>
            </a: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7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100" spc="-1" strike="noStrike">
                <a:solidFill>
                  <a:srgbClr val="000000"/>
                </a:solidFill>
                <a:latin typeface="'courier new'"/>
              </a:rPr>
              <a:t>PERLALL_BUILDROOT=~/perl5/src</a:t>
            </a:r>
            <a:endParaRPr b="0" lang="en-US" sz="21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erl-git='cd /usr/src/perl/blead/perl-git'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# currently used perl (set by perlall)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00"/>
                </a:solidFill>
                <a:latin typeface="'courier new'"/>
              </a:rPr>
              <a:t>alias p=perl5.15.8d-nt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  <a:p>
            <a:pPr indent="0">
              <a:lnSpc>
                <a:spcPct val="95000"/>
              </a:lnSpc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614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4-05-06T09:28:21Z</dcterms:created>
  <dc:creator>Google</dc:creator>
  <dc:description/>
  <dc:language>en-US</dc:language>
  <cp:lastModifiedBy>Google</cp:lastModifiedBy>
  <dcterms:modified xsi:type="dcterms:W3CDTF">2004-05-06T19:43:19Z</dcterms:modified>
  <cp:revision>1</cp:revision>
  <dc:subject/>
  <dc:title>PowerPoint Presentation</dc:title>
</cp:coreProperties>
</file>